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D3F-9720-4CC7-BCAD-380AAF31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2B9-A50F-472D-902E-7107A1FD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270-A540-411B-9750-A3E558E0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4964-A9ED-4B54-B700-3E025B0D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407C-56AD-41B9-A475-C15C906C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23D4-DD65-4C53-AAF5-C1801902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1FC6-39B0-4DAD-8536-73DBE1E0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73E5-DDF2-4714-A7CA-3740BB05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F744-8F0C-4F1A-BDBC-65A807CB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A609-7840-419D-85E4-99EC9E02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6D2A-4EA5-4177-B1CA-A5998BB5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E26-CC28-47B1-8D3C-BFF26544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C853-2593-41C3-933A-855CDEA0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4566-B63A-4038-8FFC-36B6BB27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2E0C-6279-4250-A510-5B1921E4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3BA3-3432-49FF-941E-D0590605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7CBD-BB69-462B-8AE6-561CBE30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81B92-678D-4EC4-B6F7-24B10825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9014F-76E3-42E8-802A-4A83C2F8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D08B0-790A-4297-8503-70A505A7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F4939-648D-4DB2-896A-0E43DC50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D6B47-FF1D-4291-86F9-CAFFCB06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7C1-39A6-4B7F-9A98-7BD0412C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29258-33DC-41BF-ACC6-D6D4AD00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D6582-2738-49C2-BC77-FE87B268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B054B-281C-4452-B1C5-20E5B3F4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27632-EF3F-45C2-B84E-251B058C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66F2D-762F-431D-BBE2-59E40938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0919E-787A-44CE-AF7F-B4B33011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D9BC6-8CFE-4EA5-9BDC-E75EB205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7D44E-FA70-46E1-9395-719B5542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6497B-7390-4777-91F5-89DF455D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D1EB8-A2A2-4A87-9493-69144003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1715-4DDD-41C2-A20E-FF90D0CA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E03F2-5EEE-467E-A6D0-BF1F452C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82EFD-CDD2-4369-BBC9-23CD135A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C1E17-A369-4305-9E3B-7581F0C2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81F9A-E8F4-4213-890D-0C742568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649C6-CD46-4DB3-8FC1-F4E0EA1F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9C3DD-B86D-41E5-85E2-30F07396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E992E-A332-4D0F-A62C-EB50BCB3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EE842-C0EE-4496-80C4-B2C0C725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24962-B120-457D-B10E-937295D1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5595C-B25A-4D51-BE34-2D86CC1B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924-0326-4A84-91AC-E20A60C7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C6B15-DBD2-448D-8D7F-AD3A6B6F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ADC47-C9F5-43C0-BA72-86966CB1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EF36F-DB35-4546-96F9-A6017EDA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B7531-F6DC-4464-9E87-47B32ADF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6F2B4-A351-4EE4-8DB3-8104C8FF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95C56-41BD-406A-828A-25027D53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EB6DA-5A52-4A2A-80F8-4006135F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5B0F6-D8F3-4460-826B-0B46EE71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3808C-60F2-4382-9F21-D9B886B8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C0DEB-B6A3-41C7-9B85-82995C3B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2F6-39D5-4551-A458-F74B1035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E3FD6-B6FA-4575-A65A-FE8C6071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D2177-D0CD-4605-8DE6-FB6AFD1D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AC36F-30AE-46B6-AB33-A88B6667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CFB6E-0B80-4858-BCC6-32F1B8FC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81458-9D81-4162-ADC0-F5EECC56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39293-8BC3-4641-9E51-D4090F00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85317-4E39-40D7-9B63-45D28E99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8404C-91C2-4E0A-A630-FC501685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BF138-3561-4DA3-A047-BE864FC2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3B081-DC27-451E-A72D-5176B71F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C56-759F-41C0-9F38-A37D3C72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D55DC-9B62-4DB3-BC95-049FCE99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BB34D-F8FB-43EE-8555-2409A96A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7BCF8-E46D-450C-8AA9-3E6E0A62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BFE52-76ED-47DF-9C06-75EDAE44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FC549-F6C9-44C9-A2FF-FAFC43AF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FDABC-2528-4A8B-8AC5-D06E5AF3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6C211-11D5-416D-A134-B7A21CA5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46DE8-FD35-45C0-B5BB-FEB76638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1ADBF-1FB2-47D9-8CBE-90410371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72A0D-E79F-41EF-9FBD-89AD35B4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8AA-8D2B-40B0-98AF-FC83D75A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0B96D-5334-40C0-8AF2-88851C09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C07F5-64E6-41CC-9ED6-74B059AB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33E96-B3D9-487B-9404-AA1D2D2B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1A906-8ECB-4D62-9750-3C1AF1D3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74B1F-CF9C-436E-9944-357C3F22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15E-DFCB-4CB4-9504-12901688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1D46-151F-4B0C-989D-6AFE28816179}" type="slidenum">
              <a:rPr b="0" lang="en-US" sz="1000" spc="-1" strike="noStrike">
                <a:solidFill>
                  <a:srgbClr val="ffffff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Rectangle 8"/>
          <p:cNvGrpSpPr/>
          <p:nvPr/>
        </p:nvGrpSpPr>
        <p:grpSpPr>
          <a:xfrm>
            <a:off x="0" y="0"/>
            <a:ext cx="9144000" cy="4572000"/>
            <a:chOff x="0" y="0"/>
            <a:chExt cx="9144000" cy="4572000"/>
          </a:xfrm>
        </p:grpSpPr>
        <p:pic>
          <p:nvPicPr>
            <p:cNvPr id="4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0"/>
              <a:ext cx="9144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AC3A-5104-4BE0-9249-2FC6938F34D3}" type="slidenum">
              <a:rPr b="0" lang="en-US" sz="1000" spc="-1" strike="noStrike">
                <a:solidFill>
                  <a:srgbClr val="ffffff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7"/>
          <p:cNvGrpSpPr/>
          <p:nvPr/>
        </p:nvGrpSpPr>
        <p:grpSpPr>
          <a:xfrm>
            <a:off x="0" y="0"/>
            <a:ext cx="9144000" cy="4572000"/>
            <a:chOff x="0" y="0"/>
            <a:chExt cx="9144000" cy="4572000"/>
          </a:xfrm>
        </p:grpSpPr>
        <p:pic>
          <p:nvPicPr>
            <p:cNvPr id="88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Straight Connector 8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b5ae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DEA1-0D9A-407C-8A01-9855AED217FE}" type="slidenum">
              <a:rPr b="0" lang="en-US" sz="1000" spc="-1" strike="noStrike">
                <a:solidFill>
                  <a:srgbClr val="ffffff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98F7-6286-4B97-9CAE-C89E74DF21CA}" type="slidenum">
              <a:rPr b="0" lang="en-US" sz="1000" spc="-1" strike="noStrike">
                <a:solidFill>
                  <a:srgbClr val="ffffff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1AD1-4CAB-45DC-B9AA-D5CCD74E2DA3}" type="slidenum">
              <a:rPr b="0" lang="en-US" sz="1000" spc="-1" strike="noStrike">
                <a:solidFill>
                  <a:srgbClr val="ffffff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92A5-E261-419C-8CD0-2A2E3971FCF5}" type="slidenum">
              <a:rPr b="0" lang="en-US" sz="1000" spc="-1" strike="noStrike">
                <a:solidFill>
                  <a:srgbClr val="ffffff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EF2D-C90C-4F55-BE79-F9DBB6FDE9E6}" type="slidenum">
              <a:rPr b="0" lang="en-US" sz="1000" spc="-1" strike="noStrike">
                <a:solidFill>
                  <a:srgbClr val="ffffff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PRETERITE VS. IMPERFECT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When to use these past tenses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"/>
              </a:rPr>
              <a:t>EXAMPLES OF THE PRETERITE VS. THE IMPERFECT TENSES</a:t>
            </a:r>
            <a:endParaRPr b="0" lang="en-US" sz="40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Beto estudió anoche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Beto studied last night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Beto estudiaba todas las noches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Beto used to study every night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Beto estudiaba cuando se durmió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Beto was studying when he fell asleep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WHEN TO USE THE PRETERITE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When an action was </a:t>
            </a: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complete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When an action was completed at a </a:t>
            </a: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specific tim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When an action was completed a </a:t>
            </a: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specific number of tim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When an action </a:t>
            </a: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began</a:t>
            </a: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 or </a:t>
            </a: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ende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When an action </a:t>
            </a: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interrupts</a:t>
            </a: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 another actio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"/>
              </a:rPr>
              <a:t>PHRASES THAT INDICATE USE OF THE PRETERITE</a:t>
            </a:r>
            <a:endParaRPr b="0" lang="en-US" sz="40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7880" y="2286000"/>
            <a:ext cx="3565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Ayer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Anteayer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Anoch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Desde el primer momento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Durante dos siglos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El otro día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En ese momento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Entonces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Esta mañana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492800" y="2286000"/>
            <a:ext cx="356544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El año pasado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Hace dos días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Hace cuatro años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Ayer por la mañana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Ayer por la tard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Esta tard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La semana pasada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El mes pasado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WHEN TO USE THE IMPERFECT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o state in 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general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when an action took plac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o describe 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background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informatio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o express 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weather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o tell 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o tell 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ag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o describe 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physical and mental states and conditions, including feeling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o express 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habitual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action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o express what 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used to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happe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o express what 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was/were…ing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"/>
              </a:rPr>
              <a:t>PHRASES THAT INDICATE USE OF THE IMPERFECT</a:t>
            </a:r>
            <a:endParaRPr b="0" lang="en-US" sz="40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67880" y="2286000"/>
            <a:ext cx="3565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A menud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A vec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ada dí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ada seman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ada m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ada añ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Nunc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492800" y="2286000"/>
            <a:ext cx="356544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En aquella époc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recuentement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Generalment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Muchas vec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Mucho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e vez en cuand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on frecuenci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"/>
              </a:rPr>
              <a:t>¡OJO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Some verbs change meaning depending on whether they are in the preterite or in the imperfect…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13" name="Picture 9" descr="MPj04067000000[1]"/>
          <p:cNvPicPr/>
          <p:nvPr/>
        </p:nvPicPr>
        <p:blipFill>
          <a:blip r:embed="rId1"/>
          <a:stretch/>
        </p:blipFill>
        <p:spPr>
          <a:xfrm>
            <a:off x="3809880" y="914400"/>
            <a:ext cx="1752840" cy="1166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"/>
              </a:rPr>
              <a:t>VERBS THAT CHANGE MEANING IN THE PRETERITE AND IMPERFECT</a:t>
            </a:r>
            <a:endParaRPr b="0" lang="en-US" sz="40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767880" y="2286000"/>
            <a:ext cx="3565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w Cen MT"/>
              </a:rPr>
              <a:t>Preterit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Querer- trie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No querer-refuse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Conocer-me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Saber-found ou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Poder-succeeded</a:t>
            </a: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Tener-receive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492800" y="2286000"/>
            <a:ext cx="356544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w Cen MT"/>
              </a:rPr>
              <a:t>Imperfec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Querer-wante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No querer- </a:t>
            </a:r>
            <a:r>
              <a:rPr b="1" lang="en-US" sz="2400" spc="-1" strike="noStrike">
                <a:solidFill>
                  <a:srgbClr val="ffffff"/>
                </a:solidFill>
                <a:latin typeface="Tw Cen MT"/>
              </a:rPr>
              <a:t>didn’t wan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Conocer-knew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Saber-knew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Poder-was abl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Tener-used to hav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EXAMPLES OF THE PRETERITE TENSE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Paco trabajó al supermercado hace dos años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88200" indent="-882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w Cen MT"/>
              </a:rPr>
              <a:t>Paco worked at the supermarket 2 years ago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88200" indent="-882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88200" indent="-882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Yo leí el periódico ayer por la tarde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88200" indent="-882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w Cen MT"/>
              </a:rPr>
              <a:t>I read the newspaper yesterday afternoon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88200" indent="-882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88200" indent="-882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w Cen MT"/>
              </a:rPr>
              <a:t>Comimos una torta a la fiesta el viernes pasado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88200" indent="-882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w Cen MT"/>
              </a:rPr>
              <a:t>We ate a cake at the party last Friday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EXAMPLES OF THE IMPERFECT TENSE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Hacía mal tiempo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It was bad weather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Yo tenía miedo de la tormenta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I was afraid of the storm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Mi abuelo tenía 84 años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My grandfather was 84 years old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Mi padre era un chico malo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My father was a bad boy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5:40:41Z</dcterms:created>
  <dc:creator>kozielskim</dc:creator>
  <dc:description/>
  <dc:language>en-US</dc:language>
  <cp:lastModifiedBy>Prine, Stephanie</cp:lastModifiedBy>
  <dcterms:modified xsi:type="dcterms:W3CDTF">2014-05-16T12:49:26Z</dcterms:modified>
  <cp:revision>23</cp:revision>
  <dc:subject/>
  <dc:title>PRETERITE VS. IMPERFECT</dc:title>
</cp:coreProperties>
</file>